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ct" ContentType="image/x-pict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7.pct" ContentType="image/x-pict"/>
  <Override PartName="/ppt/media/image6.png" ContentType="image/png"/>
  <Override PartName="/ppt/media/image17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1.pct" ContentType="image/x-pict"/>
  <Override PartName="/ppt/media/image20.pct" ContentType="image/x-pict"/>
  <Override PartName="/ppt/media/image18.pct" ContentType="image/x-pict"/>
  <Override PartName="/ppt/media/image4.png" ContentType="image/png"/>
  <Override PartName="/ppt/media/image15.pct" ContentType="image/x-pict"/>
  <Override PartName="/ppt/media/image3.png" ContentType="image/png"/>
  <Override PartName="/ppt/media/image14.pct" ContentType="image/x-pict"/>
  <Override PartName="/ppt/media/image16.pct" ContentType="image/x-pict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30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4950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166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330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4950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B040-36A2-46AA-ADC3-13D3442DE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5F76-754C-4F39-AE2B-B4F2E87A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19F1-7274-4153-BB5F-B34F0A41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06E2-5901-4229-AC92-2CBAD823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232A-AF2E-4E70-B746-FEBB6039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73240" y="1371240"/>
            <a:ext cx="777240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5FFF-3226-43F6-B05F-3F697121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E3B8-C474-47DB-B107-00E577F2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F851-24E7-4C56-9E51-15681885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4960-29A8-4213-97E6-A02C7840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2A8A-0D68-40EE-9516-69E55DB7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4BB8-F9CE-4F05-8BFF-AC45BE770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30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4950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66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30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4950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36C0-1584-43FC-8028-1E5D9C538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73240" y="1371240"/>
            <a:ext cx="777240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430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2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3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CBF5-0051-41AD-B7A0-1104412D6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image" Target="../media/image9.pct"/><Relationship Id="rId4" Type="http://schemas.openxmlformats.org/officeDocument/2006/relationships/image" Target="../media/image10.pct"/><Relationship Id="rId5" Type="http://schemas.openxmlformats.org/officeDocument/2006/relationships/image" Target="../media/image11.pct"/><Relationship Id="rId6" Type="http://schemas.openxmlformats.org/officeDocument/2006/relationships/image" Target="../media/image12.pct"/><Relationship Id="rId7" Type="http://schemas.openxmlformats.org/officeDocument/2006/relationships/image" Target="../media/image13.pct"/><Relationship Id="rId8" Type="http://schemas.openxmlformats.org/officeDocument/2006/relationships/image" Target="../media/image14.pct"/><Relationship Id="rId9" Type="http://schemas.openxmlformats.org/officeDocument/2006/relationships/image" Target="../media/image15.pct"/><Relationship Id="rId10" Type="http://schemas.openxmlformats.org/officeDocument/2006/relationships/image" Target="../media/image16.pct"/><Relationship Id="rId11" Type="http://schemas.openxmlformats.org/officeDocument/2006/relationships/image" Target="../media/image17.pct"/><Relationship Id="rId12" Type="http://schemas.openxmlformats.org/officeDocument/2006/relationships/image" Target="../media/image18.pct"/><Relationship Id="rId13" Type="http://schemas.openxmlformats.org/officeDocument/2006/relationships/image" Target="../media/image19.pct"/><Relationship Id="rId14" Type="http://schemas.openxmlformats.org/officeDocument/2006/relationships/image" Target="../media/image20.pct"/><Relationship Id="rId15" Type="http://schemas.openxmlformats.org/officeDocument/2006/relationships/image" Target="../media/image21.pct"/><Relationship Id="rId16" Type="http://schemas.openxmlformats.org/officeDocument/2006/relationships/image" Target="../media/image22.pct"/><Relationship Id="rId17" Type="http://schemas.openxmlformats.org/officeDocument/2006/relationships/image" Target="../media/image23.pct"/><Relationship Id="rId1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1371240"/>
            <a:ext cx="8793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hallenges Representing Phenotype in Pharmacogenomic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a Hernandez-Bouss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rmGK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pharmGkB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oals for Representing Knowledge in PharmGKB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platform for entering &amp; curating Pharmacogenomic knowledge = Protégé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important pharmacogenes + vari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+variant-drug-phenotype assoc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d entry for compu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vocabul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linkages to exist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s, drugs, externa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 seman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ble S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able AL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ocabularies Currently Use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GNC for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 famil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DRA for adverse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dict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H for disease, symp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Ontology for cellular location, molecular function,  cellular biologic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0a8"/>
                </a:solidFill>
                <a:latin typeface="Arial"/>
              </a:rPr>
              <a:t>ASSU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type vocabulary (MESH for n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&amp; drug vocabulary (MESH for n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chEBI for chemica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ing drug dictionary @ PharmGK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Knowledge Templ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d vocabulary of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representation of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of key “slots” to be filled using objects, according to log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 Pathway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way Overview template, points to “Step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way Step templates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bolism step (P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 step (P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ibition step (PD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stream phenotype step (PK &amp; P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ample metabolism st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83059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ample Drug Intera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ample Phenotype Associ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716292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990720"/>
            <a:ext cx="82296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rmGKB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egrates, aggregates and annot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ta and knowledge to serve the PGx research commun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p, high qua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enotyp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henotype 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mostly small studies, some large ones in the pipel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services inclu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terature curations, pathways, VIP gene summa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efforts focus on creat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ipel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improve efficiency and precision of cur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harmGKB Tea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473120" y="99072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225960" y="990720"/>
            <a:ext cx="1269720" cy="1257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673520" y="99072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121440" y="99072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4749840" y="236232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6121440" y="243828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7493040" y="243828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2997360" y="3886200"/>
            <a:ext cx="1269720" cy="1270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4444920" y="388620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0"/>
          <a:stretch/>
        </p:blipFill>
        <p:spPr>
          <a:xfrm>
            <a:off x="5969160" y="3886200"/>
            <a:ext cx="1269720" cy="1270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1"/>
          <a:stretch/>
        </p:blipFill>
        <p:spPr>
          <a:xfrm>
            <a:off x="3759120" y="533412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2"/>
          <a:stretch/>
        </p:blipFill>
        <p:spPr>
          <a:xfrm>
            <a:off x="7416720" y="388620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3"/>
          <a:stretch/>
        </p:blipFill>
        <p:spPr>
          <a:xfrm>
            <a:off x="5207040" y="533412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4"/>
          <a:stretch/>
        </p:blipFill>
        <p:spPr>
          <a:xfrm>
            <a:off x="7493040" y="99072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5"/>
          <a:stretch/>
        </p:blipFill>
        <p:spPr>
          <a:xfrm>
            <a:off x="1473120" y="243828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6"/>
          <a:stretch/>
        </p:blipFill>
        <p:spPr>
          <a:xfrm>
            <a:off x="3225960" y="2438280"/>
            <a:ext cx="1269720" cy="1270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7"/>
          <a:stretch/>
        </p:blipFill>
        <p:spPr>
          <a:xfrm>
            <a:off x="1473120" y="3886200"/>
            <a:ext cx="117324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Questions?  Thanks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ussard@stanford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Pharmacogenomics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standing how genetic variation leads to variation in responses to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romise from the Genome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sonalized Medic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drug use effective and safe based on a person’s specific gen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harmacogenomics Flo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85800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0" t="2419" r="4763" b="0"/>
          <a:stretch/>
        </p:blipFill>
        <p:spPr>
          <a:xfrm>
            <a:off x="2590920" y="1219320"/>
            <a:ext cx="6095880" cy="5510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143000" y="0"/>
            <a:ext cx="8001000" cy="125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harmGKB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knowledge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talyze pharmacogenomics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harmGKB Core Cont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8001000" cy="3052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143000" y="4768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ion:  aggregate, integrate &amp; annotate pharmacogenomic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harmGKB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d textual summaries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ortan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acogenes and their key var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al pathway representations built by consensus, associated with literature evidence and links to PharmGKB genes, drugs, pheno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ture Anno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rmGKB curators create data entries that associate genes with drugs and phenotypes, based on an interpretation of the literature.  They encode wit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rolled vocabula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etic Variation Complexit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variation and its relation to proteins is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exists in the gen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ne vari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specify the existence of polymorphis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“There is A/C SNP at Golden Path X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lotype variations = collection of simple var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ne alle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are specific variation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“One allele of the A/C SNP is A at GP X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lotype alleles = collection of simple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otypes are diploid alleles = “diplotyp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IONS can be described to all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otype-Phenotype Rel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about gene-drug-pheno interactions comes at different levels of granula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Gene X interacts with Drug Y (in pheno Z)--in a physical s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ari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Gene X makes a difference in pheno Z for Drug Y--in an association sense (can also be a physical interaction, but that is with produ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ecific Alle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Variant of Gene X has a particular effect on pheno  Z for Drug Y--also in an association s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saic Challenge: Throughput &amp; Redundanc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curatorial staff has many du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methods to quickly identify important knowledge and capture it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u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m ONCE for multiple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computable knowledge, can generate displays appropriate for user interests:  pathways, VIP summaries, literature summa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2T16:36:02Z</dcterms:created>
  <dc:creator>Russ B Altman</dc:creator>
  <dc:description/>
  <dc:language>en-US</dc:language>
  <cp:lastModifiedBy>Tina Boussard</cp:lastModifiedBy>
  <cp:lastPrinted>1904-01-01T00:00:00Z</cp:lastPrinted>
  <dcterms:modified xsi:type="dcterms:W3CDTF">2006-12-01T20:08:31Z</dcterms:modified>
  <cp:revision>57</cp:revision>
  <dc:subject/>
  <dc:title>PharmGKB-Mosaic</dc:title>
</cp:coreProperties>
</file>